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1.pct" ContentType="image/x-pict"/>
  <Override PartName="/ppt/media/image10.jpeg" ContentType="image/jpeg"/>
  <Override PartName="/ppt/media/image8.jpeg" ContentType="image/jpeg"/>
  <Override PartName="/ppt/media/image16.pct" ContentType="image/x-pict"/>
  <Override PartName="/ppt/media/image9.pct" ContentType="image/x-pict"/>
  <Override PartName="/ppt/media/image12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pct" ContentType="image/x-pict"/>
  <Override PartName="/ppt/media/image18.pct" ContentType="image/x-pict"/>
  <Override PartName="/ppt/media/image1.jpeg" ContentType="image/jpeg"/>
  <Override PartName="/ppt/media/image3.png" ContentType="image/png"/>
  <Override PartName="/ppt/media/image17.jpeg" ContentType="image/jpeg"/>
  <Override PartName="/ppt/media/image14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80513"/>
  <p:custShowLst>
    <p:custShow name="religion" id="0">
      <p:sldLst>
        <p:sld r:id="rId8"/>
        <p:sld r:id="rId9"/>
        <p:sld r:id="rId10"/>
        <p:sld r:id="rId11"/>
        <p:sld r:id="rId12"/>
        <p:sld r:id="rId13"/>
      </p:sldLst>
    </p:custShow>
    <p:custShow name="Speech" id="1">
      <p:sldLst>
        <p:sld r:id="rId14"/>
        <p:sld r:id="rId15"/>
        <p:sld r:id="rId16"/>
      </p:sldLst>
    </p:custShow>
    <p:custShow name="press" id="2">
      <p:sldLst>
        <p:sld r:id="rId17"/>
        <p:sld r:id="rId18"/>
      </p:sldLst>
    </p:custShow>
    <p:custShow name="Assembly" id="3">
      <p:sldLst>
        <p:sld r:id="rId19"/>
        <p:sld r:id="rId20"/>
      </p:sldLst>
    </p:custShow>
    <p:custShow name="Petition" id="4">
      <p:sldLst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293-E340-4E42-822E-3FEAFA89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CB1-2D3C-45E9-A613-C84E9D35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739-07B7-4AD7-B946-6897CD39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24A-E6BF-40C1-B042-3CDC5C59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D821-D0E3-4454-B54F-36053568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0E7C-D942-4F1B-BE83-7B0A2821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D3D1-6405-4482-9874-2EB41B23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382C-0A6B-4DB5-809D-5B12F7C6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1618-F0A0-4D75-A57D-BBFBBE02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2BBD-0059-49E9-8FFD-00331060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D1ED-C4B5-40B3-B9EA-2BD32DF2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43AD-A5EB-4415-A857-D346640D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E3E5-52EE-429C-AD9F-AC912D4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281E-015C-4F9C-930F-41526949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C7DE-0296-4F97-8CD5-094DE7C7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3648-679B-45DA-8E4B-FC17B041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3550-AA3F-4477-9B05-57C52F43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E3D-8046-4E87-AA28-D164C7C7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861-74E0-4EE9-87DA-8E5EBDA3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2DF-BBA4-40F7-ADB5-C99B2E1B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7AF-96CE-4E33-94EF-D5D4B66B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C7B-B33F-4F6D-B40E-AC1B06F1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7FA-DB14-4D56-B28E-14CA919F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AA6-1D02-4B1C-B150-B399E3F1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C279-5BB3-40A5-A403-6331918A077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184B-8AE3-4FB6-A156-FD8702041F4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Bill of Righ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419112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e first 10 amendment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o the U. S. Constitution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 Exercise—The person</a:t>
            </a:r>
            <a:br>
              <a:rPr sz="4400"/>
            </a:b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no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hoose whatever relig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d a prayer in most examp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sk questions about religion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orship who ever you w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reak the law and claim it is religious belief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aise children without educ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prave children of basic need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dom of speech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gress shall make no laws . . .  abridging the freedom of speech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51814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 speech– The individual can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ay any political belief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test (without getting out of contro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ay things about someone that are tr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urn the fla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ay racist and hate sloga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ee speech means someone might say something you disagree wit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 speech—limits on the pers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reaten to blow up airplanes, schools or the pres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xual harass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reate too much social cha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xtremely crude language in a public for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isrespectful, vulgar language in schoo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ate cri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dom of the pre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2101320"/>
            <a:ext cx="487692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gress shall make no law  . . . abridging . . . the freedom of the press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284148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dom of the press-the press</a:t>
            </a:r>
            <a:br>
              <a:rPr sz="4400"/>
            </a:b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no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int any political posi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ke fun of people, especially politicia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xpose wrongs by the govern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ay things you might not agree wi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ibel– intentionally injuring a person’s reputation by false fac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sclose defense-security secre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tail how to make a certain weap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dom of Assembl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gress shall make no law . . . Abridging . . . The people to peaceably assemble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33720" y="3117960"/>
            <a:ext cx="518148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dom of Assembly--Individual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no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test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ade (with a permi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ade chanting hate sloga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ang members can congregate in publi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test by throwing rocks and breaking window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ang out on private land against owners will—loiter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en curfe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etition the Govern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gress shall make no law . . . Abridging . . . the people. . . to petition the government for a redress of grievances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90920" y="3862440"/>
            <a:ext cx="38862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etition the govern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ay sue the government for wro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cannot be punished for exposing wrongs by the gover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courts decide the wrong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4354560"/>
            <a:ext cx="558972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determines what the Bill of Rights mean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upreme Court makes rulings on the mean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Supreme Court balances the rights of the individual with the needs of socie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2251080" cy="2211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14400" y="5486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dividual?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548640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ociety?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2a3d7a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Amendment—Right to bear a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ell-regulated militia, being necessary to the security of a free state, the right of the people to bear arms shall not be infringed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38592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the debate with the right to bear arm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ow much can the government keep guns from criminals and youth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 order to keep guns away from criminals, does that limit the right of law abiding citizens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un debate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ousands of people die every year because of gun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ousands of crimes are prevented because of gu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2185920"/>
            <a:ext cx="4876920" cy="3237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5562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hoes representing gun death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ird Amend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Government cannot force you to shelter soldiers in your home without your consent in time of war or pea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800600" y="1425600"/>
            <a:ext cx="36082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ights of the Accused Amendments #4-8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mportant to preserve freedo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2825640"/>
            <a:ext cx="7467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ahoma"/>
              </a:rPr>
              <a:t>Fourth Amend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What does a policeman need in order to search your home?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A warrant given to him by a judge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Probable cause is also nee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5812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40440" y="1981080"/>
            <a:ext cx="2727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ifth Amend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cannot be tried for the same crime twice—called “Double Jeopardy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do not have to testify against your self. “I plead the fifth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hav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due proces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of law before you are convict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government cannot take your land unless it p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ixth Amend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Right to speedy trial by impartial jury—meaning not favoring either sid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876920" y="2662200"/>
            <a:ext cx="42670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ixth Amendment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be told of charg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be provided a lawyer if you cannot afford on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48769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ighth Amend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5880" y="2101320"/>
            <a:ext cx="27432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 excessive bai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 cruel and unusual punish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5791320" cy="3848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84360" y="59086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6040" y="613728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risoner kissing his Mom in pris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irst amendment—5 rights mention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42674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eedom of Speec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eedom of Religion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eedom of the Pr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eedom of Assemb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ight to petition the gover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5812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ive Rights in the Amend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1" action="ppaction://hlinksldjump"/>
              </a:rPr>
              <a:t>Freedom of Relig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Freedom of speec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3" action="ppaction://hlinksldjump"/>
              </a:rPr>
              <a:t>Freedom of the pres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4" action="ppaction://hlinksldjump"/>
              </a:rPr>
              <a:t>Freedom of Assemb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0ae6a"/>
                </a:solidFill>
                <a:uFillTx/>
                <a:latin typeface="Times New Roman"/>
                <a:hlinkClick r:id="rId5" action="ppaction://hlinksldjump"/>
              </a:rPr>
              <a:t>Petition the gover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dom of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gress shall make no law respecting an establishment of religion or prohibiting the free exercise there of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wo clause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Establishment clau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Free Exercise clau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blishment and free exercise clause often conflict with each other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schools, the religion issue is most prevalent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f a student raises his hand and says “teacher, can we say an opening prayer before this test”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2880" y="2514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f the teacher says: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es”, It looks like establishment of relig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”, It is deigning a student free exerci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blishment Clause—Government cannot promote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2276640"/>
            <a:ext cx="81536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blishment clause-Government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s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2a3d7a"/>
                </a:solidFill>
                <a:uFillTx/>
                <a:latin typeface="Times New Roman"/>
              </a:rPr>
              <a:t>Canno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each about religions in scho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llow voluntary prayer in many examp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ransport students to a religious scho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ad Bible for culture or literacy cont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t a state religion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overnment cannot order a pray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each religious doctrine in the scho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ay seminary teach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each creationis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ree exercise of relig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6834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9:50:35Z</dcterms:created>
  <dc:creator>inst</dc:creator>
  <dc:description/>
  <dc:language>en-US</dc:language>
  <cp:lastModifiedBy>LPS Lincoln Public Schools</cp:lastModifiedBy>
  <dcterms:modified xsi:type="dcterms:W3CDTF">2008-02-11T18:03:19Z</dcterms:modified>
  <cp:revision>25</cp:revision>
  <dc:subject/>
  <dc:title>The Bill of Rights</dc:title>
</cp:coreProperties>
</file>